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144-C604-492C-9D82-916D3BA6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8FB-660F-4247-B803-67FE1E0B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B95-6352-41DE-A478-55BC7382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519-4620-45EF-AA60-75C806D2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488-6E29-40DD-8869-30E180BC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8C0-E700-4A33-BB53-A700286E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2FA-9EC9-4B1D-AD64-2282F040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7EC-C753-44FB-8385-976EAEFF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D38-3E06-4BCC-94D6-47FCDF1E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B20-D212-4F62-91BE-152AFCA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7AB-31B4-46C2-83E1-1B600C91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A62-C808-44E9-97D1-B54868A5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D433-420B-43DF-B215-F2C549943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cc99"/>
                </a:solidFill>
                <a:latin typeface="CAC Futura Casual"/>
              </a:rPr>
              <a:t>Me llamo _________ Clase 6 NH (601)</a:t>
            </a:r>
            <a:br>
              <a:rPr sz="3500"/>
            </a:br>
            <a:r>
              <a:rPr b="0" lang="en-US" sz="3500" spc="-1" strike="noStrike">
                <a:solidFill>
                  <a:srgbClr val="00cc99"/>
                </a:solidFill>
                <a:latin typeface="CAC Futura Casual"/>
              </a:rPr>
              <a:t>La fecha es el __ de septiembre del 2012</a:t>
            </a:r>
            <a:endParaRPr b="0" lang="en-US" sz="35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Propósito # 4: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Cómo eres tú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Actividad Inicial: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Copia y completa con el pronombre correcto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he)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 __________ es alt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	</a:t>
            </a: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I)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__________ soy muy cómic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we)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 __________ somos simpático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(they [girls])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  <a:ea typeface="Times New Roman"/>
              </a:rPr>
              <a:t> __________ son bonita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5880" y="3276720"/>
            <a:ext cx="1143000" cy="69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67480" y="3733920"/>
            <a:ext cx="91440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077320" y="4419720"/>
            <a:ext cx="582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010280" y="5410080"/>
            <a:ext cx="16002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Practica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Lee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Conversacion: ¿De dónde son?</a:t>
            </a: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 p. R4, en voz alta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¿Comprendes?</a:t>
            </a: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 p. R4 (1-5)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WORKBOOK: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Completa p. R1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276720"/>
            <a:ext cx="8001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Tarea #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4:27:43Z</dcterms:created>
  <dc:creator>Helen Zumaeta</dc:creator>
  <dc:description/>
  <dc:language>en-US</dc:language>
  <cp:lastModifiedBy>Helen Zumaeta</cp:lastModifiedBy>
  <dcterms:modified xsi:type="dcterms:W3CDTF">2012-09-22T19:29:55Z</dcterms:modified>
  <cp:revision>6</cp:revision>
  <dc:subject/>
  <dc:title>Me llamo _________ Clase 6 NH La fecha es el 13 de enero del 2012</dc:title>
</cp:coreProperties>
</file>